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BF0-4144-463D-9E30-4EE5D604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1A8-E5F7-4775-97E8-305C333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FF1-46D8-4FEE-9696-F73C5810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334-5DAE-4DB3-A27D-22C9FCE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784-64C1-4F96-8110-8CBAEAD4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964-19D2-4AE6-AF50-18B6B6C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F6E-D062-437D-BB46-CE0EC17E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672-3151-4B3B-8F38-37E3D3F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16A-31C1-41A6-95F1-CDAAB3B1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C9D-D3C0-4B03-AD12-D3433C5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BF9-EF1A-4474-B003-645B03A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2D5-58B1-4241-BE5B-631A5EA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439-ACDD-44DD-967F-1F557E8715AD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leria.giardino@gmail.com" TargetMode="External"/><Relationship Id="rId2" Type="http://schemas.openxmlformats.org/officeDocument/2006/relationships/hyperlink" Target="http://valeria.giardino.googlepages.com/" TargetMode="External"/><Relationship Id="rId3" Type="http://schemas.openxmlformats.org/officeDocument/2006/relationships/hyperlink" Target="http://valeria.giardino.googlepages.com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177640"/>
            <a:ext cx="77738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Visual Displays of Information and the Practice of Science</a:t>
            </a:r>
            <a:br>
              <a:rPr sz="4400"/>
            </a:br>
            <a:r>
              <a:rPr b="0" lang="it-IT" sz="3400" spc="-1" strike="noStrike">
                <a:solidFill>
                  <a:srgbClr val="000000"/>
                </a:solidFill>
                <a:latin typeface="Garamond"/>
                <a:ea typeface="굴림"/>
              </a:rPr>
              <a:t>Pragmatic appro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7960" y="4822560"/>
            <a:ext cx="50004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  <a:ea typeface="굴림"/>
              </a:rPr>
              <a:t>Valeria Giardi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굴림"/>
              </a:rPr>
              <a:t>Università di Roma ‘La Sapienz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굴림"/>
              </a:rPr>
              <a:t>Institut Jean Nic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 u="sng">
                <a:solidFill>
                  <a:srgbClr val="cc3300"/>
                </a:solidFill>
                <a:uFillTx/>
                <a:latin typeface="Arial"/>
                <a:ea typeface="굴림"/>
                <a:hlinkClick r:id="rId1"/>
              </a:rPr>
              <a:t>valeria.giardino@gmail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 u="sng">
                <a:solidFill>
                  <a:srgbClr val="cc3300"/>
                </a:solidFill>
                <a:uFillTx/>
                <a:latin typeface="Arial"/>
                <a:ea typeface="굴림"/>
                <a:hlinkClick r:id="rId2"/>
              </a:rPr>
              <a:t>http://</a:t>
            </a:r>
            <a:r>
              <a:rPr b="0" lang="it-IT" sz="1500" spc="-1" strike="noStrike" u="sng">
                <a:solidFill>
                  <a:srgbClr val="cc3300"/>
                </a:solidFill>
                <a:uFillTx/>
                <a:latin typeface="Arial"/>
                <a:ea typeface="굴림"/>
                <a:hlinkClick r:id="rId3"/>
              </a:rPr>
              <a:t>valeria.giardino.googlepages.com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58560" y="282600"/>
            <a:ext cx="727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굴림"/>
              </a:rPr>
              <a:t>Centro de Filosofia das Ciências da Universidade de Lisb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January 1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굴림"/>
              </a:rPr>
              <a:t>Worksho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common way of describing i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wo different sorts of linguistic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redicates (quite elaborate internal structur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굴림"/>
              </a:rPr>
              <a:t>(ex. ‘pendulum’, ‘two-body Newtonian gravitational system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tatements of the form ‘X is P’ (X = real system, P = one of the predica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굴림"/>
              </a:rPr>
              <a:t>(ex. ‘The system earth moon is a Newtonian gravitational system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1800" y="115920"/>
            <a:ext cx="798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Model-based view of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iere’s criticism and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is way of formulating the statement and the model-based views still overemphasizes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linguist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sp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Hi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predicate ‘pendulum’, as it appears in classical mechanics, does not apply directly to real-world objects but to a family of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dealized model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11480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he idealized model pendulum in classical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real swinging we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88000" y="404280"/>
            <a:ext cx="403200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a </a:t>
            </a:r>
            <a:r>
              <a:rPr b="0" i="1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hings sufficiently similar to the prototype to be classified as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Representational devices: language, models, and objects in the re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200" y="4765680"/>
            <a:ext cx="837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he representational relationship is not the truth of a statement relative to the facts, or the applicability of a predicate to an object, but the similarity of a prototype to putative instances (two NON-LINGUISTIC ent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08520" y="4581360"/>
            <a:ext cx="1930680" cy="90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68880" y="1486080"/>
            <a:ext cx="96372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253040" y="3430440"/>
            <a:ext cx="1384200" cy="90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08880" y="3392640"/>
            <a:ext cx="1384200" cy="90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87840" y="5614920"/>
            <a:ext cx="977760" cy="40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869240" y="5589720"/>
            <a:ext cx="97776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96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981000"/>
            <a:ext cx="39085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aramond"/>
                <a:ea typeface="굴림"/>
              </a:rPr>
              <a:t>A family of models of pendulums radiating out from the model of a simple pendul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aramond"/>
                <a:ea typeface="굴림"/>
              </a:rPr>
              <a:t>The sketch at the top is a particular embodiment of the abstract model of a simple pendul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aramond"/>
                <a:ea typeface="굴림"/>
              </a:rPr>
              <a:t>It too can serve as a prototype in judging the similarity of a particular real pendulum to the classical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0480" y="146160"/>
            <a:ext cx="368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O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Visual presentations of both models and data can be used in crucial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decision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bout which models best represent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case study: 20th century geology (stabilism vs. mobili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Visual models as an organizing template for whatever other potentially relevant information the agent may possess, regardless of how that information was enco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Nersessian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3480" y="199836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sts’s problem solving strategies and the representational practices developed over the course of history of scie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very sofisticated and refined outgrowths of ordinary reasoning and representation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241200"/>
            <a:ext cx="8785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Beyond the separation between the context of justification (philosophers) and context of discovery (historians and psycholog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Garamond"/>
                <a:ea typeface="굴림"/>
              </a:rPr>
              <a:t>Cognitive-historical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new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context :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ynamic processes (long period of time and social context) through which a vague speculation gets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rticulated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into a new scientific theory, gests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mmunicated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to other scientists, and comes to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eplace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existing representations of a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911160"/>
            <a:ext cx="8756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Ultimate goal: to reconstruct scientific thinking by means of cognitive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t present,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gnitive theories are largely uninformed by scientific representational and problem-solving practices: the fit cognitive theories/scientific practices still to be determi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ifferent modeling activities (except for (1), rarely present in the philosophical liter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nalogic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magistic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ough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Limiting case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333360"/>
            <a:ext cx="822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epresentational and constructive practices of scientists as part of the 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eveloping criteria for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evaluating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good and bad uses of heu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hilosophical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easoning comprises more then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39596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new problem: how scientists, individually and collectively, combine their cognitive abilities (their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biology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)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ogether with the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acquired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nceptu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7360"/>
            <a:ext cx="8686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Diagrams and (history of)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638520" cy="514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34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II. A case study: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1284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ooding (200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4797360"/>
            <a:ext cx="777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Faraday's notebook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rich mixture of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ketche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iagram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72360" y="1752480"/>
            <a:ext cx="2385720" cy="2252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184480"/>
            <a:ext cx="2698560" cy="1262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419640" y="1824120"/>
            <a:ext cx="25556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Oersted’s discovery that a current-carrying wire has magnetic 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Many of Faraday’s experiments as showing a temporal slice - a ‘snapshot’- of the effect of some more complex but hidden, physic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Electrical and magnetic effects are mixed in a way that the eye simply cannot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The story of the ‘constructive method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By September 1821: Faraday and Davy had developed experimental methods of integrating discrete experimental events (or rather, of integrating the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images depicting them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ccumulation: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“they combined discrete images obtained over time into a single geometrical structure. Conversely they also created a physical structure of sensors with which to record the effects of a single event at different points of sp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  <a:ea typeface="굴림"/>
              </a:rPr>
              <a:t>A typical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Positioning one or more needles in the region of a wire, connecting the circuit to a battery and observing the effect on the needle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Similarly, continuous exploration of the space around the wire would produce a pattern made up of many discrete observations of needle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These results into a single model, a three-dimensional representation of the magnetic effects of the curr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A structure of needles arranged in a spiral around the wire and examined after discharging a current through it, gave a three-dimensional magnetic ‘snapshot’ of the magnetizing effect of the cu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Another setup, a horizontal disc with needles arranged around its perimeter, emerged from a set of temporally distinct observations, which this setup integrates into a single spatial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ooding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55760" y="1052640"/>
            <a:ext cx="6816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95480" y="6075360"/>
            <a:ext cx="97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굴림"/>
              </a:rPr>
              <a:t>2-D pattern  &gt;&gt; 3-D structure &gt;&gt; 4-D process &gt;&gt; inference or material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Faraday’s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55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ot simple records of observations, rather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orking n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ools for thinking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, not images of its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hat they purport to represent both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mplex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ynam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each image itself stands for an accumulation of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ractical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oretical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549360"/>
            <a:ext cx="8209080" cy="60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nterpretative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gnitive (generative) and social (communicative) functions are inestricab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NSTRUALS or MANIPULATIVE AB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i="1" lang="it-IT" sz="3200" spc="-1" strike="noStrike">
                <a:solidFill>
                  <a:srgbClr val="990000"/>
                </a:solidFill>
                <a:latin typeface="Garamond"/>
                <a:ea typeface="굴림"/>
              </a:rPr>
              <a:t>proto</a:t>
            </a:r>
            <a:r>
              <a:rPr b="0" i="1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-representations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hich merge images and words in tentative interpretations of nove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20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Other examples of ‘scribbles’ as ‘artifac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73560" y="115920"/>
            <a:ext cx="4762440" cy="655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2421000"/>
            <a:ext cx="282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Galilei’s first notes on the parabolic path of projec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  <a:ea typeface="굴림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2360" y="1410840"/>
            <a:ext cx="8640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. The dynamics of science: against logical empir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I. Two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II. A case study: Fara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V. Some remarks on scienc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Questions for th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730080"/>
            <a:ext cx="5832360" cy="522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227640" y="2843280"/>
            <a:ext cx="282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Leonardo’s sketch of ball-b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67120" y="189000"/>
            <a:ext cx="4052880" cy="6323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640" y="2554200"/>
            <a:ext cx="282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Darwin’s third tree of natur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V. Some remarks on art and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Focus on processes: 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art an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801800"/>
            <a:ext cx="820872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istinction emerged during the Renaissance (science domain of fact /arts domain of expression and interpret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Yet many of the technologies of art influenced representational practices in the sc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  <a:ea typeface="굴림"/>
              </a:rPr>
              <a:t>One possible way out of this distinction: focus on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'two cultures' do not express fundamentally different aspects of human cognitive capability; rather, they express differences between the cultures in which particular cognitive capacities are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Topper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844640"/>
            <a:ext cx="82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fic illustration is customarily viewed as a form of art (supremacy of written words for recording and conveying inform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Only recently illustrations are studied as a means to convey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568440"/>
            <a:ext cx="8208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series of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nature of scientific illustration itself – theory-ladenness and empirical cont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nature of all types of illustration an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demarcation of science, pseudo-science, and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very nature of what we mean b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n artistic or scientific ‘reading’ of a picture is fundamentally a matter of context, not content: one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43280" y="23760"/>
            <a:ext cx="5724360" cy="454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6560" y="4902120"/>
            <a:ext cx="849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The work of the eighteenth-century Dutch artist and anatomist Petrus Cam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His work on physical anthropology later formed the basis of craniometry and, in particular, the racist theory of the so-called facial ang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362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etrus Camper’s aim: to show artists how to have a schematic means for drawing Africans correctly (not as black Europeans, as it was usually done), especially the black Magus in Nativity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acist (pseudo-)scientists interpreted this artistic artifact as (pseudo-)scientific, expressing the intellectual ranking of human types (in which – not surprisingly – white Europeans were closer to the ideal beauty of Greek sculpture and Africans closer to ap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Questions for th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(very serious) methodological issue: from case studies to general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hilosophy of science: truth or reasoning processes (and technolog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re scientific images used (1) to represent some object or (2) different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f (1), what is a difference between different kind of images (e.g. A photography vs. a sketch)? If (2), how are they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. Capturing the dynamics of science: beyond logical empir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1584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Baigre (1996), Introduction of </a:t>
            </a:r>
            <a:r>
              <a:rPr b="0" i="1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Pictu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, Visual Models and Scientific Ju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Gooding (2002), Visualization, Inference and Explanation in the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Kuhn (1962), The Structure of Scientific Rev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Nersessian (1996), How do Scientists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opper (1996), Towards an Epistemology of Scientific 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4273560"/>
            <a:ext cx="84247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Garamond"/>
                <a:ea typeface="굴림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primary mode of scientific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representation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for a logical empiricist is linguistic. [...]. This cognitive authority resonates in standard portraits of the relationships between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technology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sci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Baigrie 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49320"/>
            <a:ext cx="5761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Logical empiricist imag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fic knowledge consists primarly of what is encapsulated in scientific theories, which are ideally to be thought of as interpreted axiomatic syste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fic reasoning has the general character of a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log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(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linguist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entit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Kuhn (19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relative evaluation of rival paradigms is not something that can be reduced to any sort of logic but a matter of choice by scientists acting as individuals within a scient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aturalistic account: explaining science in terms of naturalistic categories (psychological make-ups of individual scientists and social inte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147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evertheles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o emphasis on the role of visual or other non propositional model of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representation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i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o talk about re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his picture of science as a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puzzle-solving activity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as meant to be an alternative to the view of science as producing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truth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BUT representations are still thought of in propositional terms (see the emphasis on incommensurability in linguistic terms) thus leading immediately to the concept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7846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I. How to approach science and the role of the different representations used by scientist: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two propos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4:56:27Z</dcterms:created>
  <dc:creator>valeria</dc:creator>
  <dc:description/>
  <dc:language>en-US</dc:language>
  <cp:lastModifiedBy>Woogie</cp:lastModifiedBy>
  <dcterms:modified xsi:type="dcterms:W3CDTF">2008-09-09T11:01:30Z</dcterms:modified>
  <cp:revision>172</cp:revision>
  <dc:subject/>
  <dc:title>Slide 1</dc:title>
</cp:coreProperties>
</file>